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14AA-884A-43CB-AE0B-A2AE98EC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9B21-998A-4E60-A0BA-8D847EF4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CEA-5265-478F-BE21-139B1B82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D8C-F675-478E-82DA-63D1853D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0272-21DB-4907-BEF2-D4B9EA4B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FC6B-26FF-4843-A958-52D66C49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6386-AE90-4A5C-B7C0-D78379AB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4761-8122-47D0-9371-DBE9A902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6211-6CB8-40C7-AA2A-EC5BF024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A6E7-6A15-4138-A654-752D1CCE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5542-A1A1-48CF-8FE1-412FB49A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CFA9-E475-4604-A379-5591062F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BE7E-69FC-4601-91D3-E38AC82C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DD04-D8CC-4B8A-939E-7DCBA06D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0252-53A5-40DC-87E4-98D4CD3C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7D15-534F-4427-B4FB-F3FF524E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5262-B5C3-4981-B9FA-A736F851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73FA-DA19-4C16-ACFF-972BC399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C15-13D3-44BD-8BB2-BBBCA1B6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3430-5E5F-4860-BBEA-489E9436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62E9-2ADE-4BEF-85C8-01E9EB8F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2E09-051A-42A3-AA52-8ACA603B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DCD-1EAB-4699-B5B9-BB3638DB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4CDA-FA12-44A6-B3CB-DFC8A7E5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C770-ECC7-4283-B9EA-906D6A1FEC6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55E2-3F5A-44EE-98C6-9660B7E7E2E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Steps to solving Punnett Square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ere are the Steps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key. Include both alle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“cross” to show the parents’ genotyp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parents’ genotypes (letters) around the outside of the squa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ll in the square- copy letters down and acro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percentage chance for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ffspring’s geno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percentage chance for the offspring’s pheno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# 1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certain species of mouse, pointed ears are dominant over round ea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 the genotypes and phenotypes of a cross between two hybrid pointed-eared mi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Write a key. Include both alleles.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= pointed 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= round 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Write a “cross” to show the parents’ genotypes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 one= P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 two= P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Write the parents’ genotypes (letters) around the outside of the square.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3048120"/>
            <a:ext cx="4572000" cy="2971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30481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44956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666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                                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3200400"/>
            <a:ext cx="685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20574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733920"/>
            <a:ext cx="7333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Fill in the square- copy letters down and across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3048120"/>
            <a:ext cx="4572000" cy="2971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30481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44956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66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                                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3200400"/>
            <a:ext cx="685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0574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3733920"/>
            <a:ext cx="7333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3505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3809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40384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048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5029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5181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5410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30481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55627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Write the percentage chance for the offspring’s genotype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2895480"/>
            <a:ext cx="4572000" cy="2971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28954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4343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2514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                                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3048120"/>
            <a:ext cx="685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19051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581280"/>
            <a:ext cx="733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3352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33526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48769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3124080"/>
            <a:ext cx="25909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= PP (Homozygous Domin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= Pp (Heterozyg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= pp (Homozygous Recess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Write the percentage chance for the offspring’s phenotype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048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5% chance of having Pointed 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y it yourself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certain species of dog, a black nose is dominant over a pink nos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 the genotypes and phenotypes of a cross between a purebred dominant male dog and a purebred recessive fema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4:12:32Z</dcterms:created>
  <dc:creator>Tricia</dc:creator>
  <dc:description/>
  <dc:language>en-US</dc:language>
  <cp:lastModifiedBy>loyola</cp:lastModifiedBy>
  <dcterms:modified xsi:type="dcterms:W3CDTF">2007-02-21T17:39:45Z</dcterms:modified>
  <cp:revision>3</cp:revision>
  <dc:subject/>
  <dc:title>Steps to solving Punnett Squares</dc:title>
</cp:coreProperties>
</file>